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936-B20A-4423-B0D0-EEE7AB3A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CD4-77F1-466D-AD19-B219F6B2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87E-B285-4781-B4AA-65C296FD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2F9-E56A-47D3-AB48-8D44AB92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9EFB-7278-4685-AB3D-4D065A4E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3F8B-36CC-4890-BFA9-7F97F073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151D-C145-4E2C-8657-E2F34CC4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9E2E-9A74-429A-929A-815EDA7B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30CF-9161-4418-BDAD-1FCA128E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2258-4687-48CD-B4E9-0341EEE1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EDB5-F0EE-4879-920C-0F8B2E92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277-F3B8-4819-8D51-D599F83F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1EDB-B03B-4325-BE2C-461B9953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4B1B-0951-4A0B-900E-3129028B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66D9-0522-4B67-876F-4FB80623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C8A7-06F6-40A3-A615-92490FAE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CCEF-C11B-4C9C-A31A-4AAC93C5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DC1-23FF-47E0-ABF6-032D3039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FDD-3E87-48E5-815E-5EDF0292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DC9-E1DD-41C1-B9B8-9FF17A60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C19-B422-4AEA-9BCE-09F17342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8B1-EF87-4939-83F2-20235886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5E7-D913-462C-B423-F430CB0D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321-C46B-4937-8B26-51C0E86E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085F-F00F-441F-A827-F1247B993F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F134-5193-4623-A5B6-6F53931A10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50292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BALIN LARSON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04920" y="2133720"/>
            <a:ext cx="5486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nior 20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173480" y="152280"/>
            <a:ext cx="4284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otogra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3341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ho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81080" y="1874880"/>
            <a:ext cx="52578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by Pi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ee Choice #1: Hand Colo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7400" y="1809720"/>
            <a:ext cx="5257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ee Choice #1: Hand Colo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35000" y="1828800"/>
            <a:ext cx="5075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ner Portra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6320" y="1828800"/>
            <a:ext cx="3367080" cy="415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ner Portra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0292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inting with L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52640" y="1905120"/>
            <a:ext cx="3138480" cy="3962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1636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8:48:29Z</dcterms:created>
  <dc:creator>bal_balarson</dc:creator>
  <dc:description/>
  <dc:language>en-US</dc:language>
  <cp:lastModifiedBy>bal_balarson</cp:lastModifiedBy>
  <dcterms:modified xsi:type="dcterms:W3CDTF">2009-05-21T18:22:37Z</dcterms:modified>
  <cp:revision>8</cp:revision>
  <dc:subject/>
  <dc:title>Slide 1</dc:title>
</cp:coreProperties>
</file>